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2498-1BFB-47FD-9928-3894FFADC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EF5C-72BC-4E20-A7BB-CB013E8B6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B689-A25B-4A38-8C12-050370E16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1034-4115-4C5B-998D-5E9F34A8F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2735-949C-48A6-8C14-D8AF7ED20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3281-749A-4408-99AD-8C6EDE3AF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5FD9-4865-4B54-A967-60BA51C39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EAF3-E3A6-417C-B99C-40C2F3978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CC3D-53F9-4829-86DE-56A8DBF6E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677B-204C-447D-91AB-814C4299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BB4C-C00C-4FC6-A79F-9E547F48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4B31-1870-4E4E-9057-CA9F0B94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B6380-EEC8-482C-A766-6E95B07069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2276280"/>
            <a:ext cx="8353440" cy="24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3300"/>
                </a:solidFill>
                <a:latin typeface="Comic Sans MS"/>
              </a:rPr>
              <a:t>Hello, Computer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7" dur="150912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7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s of a compu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042920" y="692280"/>
          <a:ext cx="701064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692280"/>
                    <a:ext cx="70106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468360" y="551664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 (compact disk), floppy disk, keyboard, mouse, printer,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496000" cy="54835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203640" y="119700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79640" y="155736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in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308720" y="48690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00360" y="515772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ey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5157720"/>
            <a:ext cx="158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loppy d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19280" y="4653000"/>
            <a:ext cx="20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D (compact dis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 bug – an error in the program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 flame – an unfriendly e-m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 geek (a haker) – a person who knows everything about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o press – to use force grad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o look up – to search for some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o surf – to “move around” the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www – World Wide W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843280" y="333360"/>
            <a:ext cx="3744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New Word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523880" y="1397160"/>
          <a:ext cx="6096240" cy="4659120"/>
        </p:xfrm>
        <a:graphic>
          <a:graphicData uri="http://schemas.openxmlformats.org/drawingml/2006/table">
            <a:tbl>
              <a:tblPr/>
              <a:tblGrid>
                <a:gridCol w="609840"/>
                <a:gridCol w="566640"/>
                <a:gridCol w="652320"/>
                <a:gridCol w="571680"/>
                <a:gridCol w="647640"/>
                <a:gridCol w="609480"/>
                <a:gridCol w="609840"/>
                <a:gridCol w="609480"/>
                <a:gridCol w="609480"/>
                <a:gridCol w="609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6732720" y="148428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732720" y="1557360"/>
            <a:ext cx="21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580000" y="19162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380360" y="2349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56360" y="2852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56360" y="3357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2360" y="393372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56360" y="443700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720" y="494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356000" y="5445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04000" y="1341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067280" y="134136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o    u    s   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191628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   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l    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19640" y="2421000"/>
            <a:ext cx="41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  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a    n    n    e   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68360" y="2924280"/>
            <a:ext cx="41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   p    g   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a   d   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92360" y="3429000"/>
            <a:ext cx="47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    e    y    b  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a    r   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916360" y="393372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    i   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59280" y="4076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455840" y="4960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824200" y="4889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119480" y="4529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348000" y="450864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  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d    e  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24360" y="5013360"/>
            <a:ext cx="30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24360" y="501336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l    a    m  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124000" y="5516640"/>
            <a:ext cx="24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    o    o  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Times New Roman"/>
              </a:rPr>
              <a:t>Bill Gates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71640" y="1413000"/>
            <a:ext cx="7488000" cy="49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03640" y="-360"/>
            <a:ext cx="2736720" cy="1143000"/>
          </a:xfrm>
          <a:prstGeom prst="rect">
            <a:avLst/>
          </a:prstGeom>
          <a:solidFill>
            <a:srgbClr val="186bb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500" spc="-1" strike="noStrike">
                <a:solidFill>
                  <a:srgbClr val="ffffff"/>
                </a:solidFill>
                <a:latin typeface="Comic Sans MS"/>
              </a:rPr>
              <a:t>E-mail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900000" y="907920"/>
            <a:ext cx="7274160" cy="581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ssar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 = 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 =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nx = tha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= s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=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=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 = gl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 bet = Yes! (the strong mean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te = nigh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nna = do you want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up = 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 = beca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chat room dialog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ia: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Hell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how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re yo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d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:  Great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hank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Glad to see you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ia: M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oo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:  Did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yo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 well in that test on Mond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ia: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Y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: So what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re yo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ing on Friday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nigh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ia: Well, I’ll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be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ing to Jenny’s party.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Do you want to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: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Yes! Than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ia: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We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ill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you 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e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club on Saturd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: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Y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04:38:52Z</dcterms:created>
  <dc:creator>a1</dc:creator>
  <dc:description/>
  <dc:language>en-US</dc:language>
  <cp:lastModifiedBy>Supervisor</cp:lastModifiedBy>
  <dcterms:modified xsi:type="dcterms:W3CDTF">2007-11-27T17:34:37Z</dcterms:modified>
  <cp:revision>12</cp:revision>
  <dc:subject/>
  <dc:title>Слайд 1</dc:title>
</cp:coreProperties>
</file>